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5B4A0-1D29-4D04-87C4-67F1B52CA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62755-CA94-447D-8523-C12BB441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B706-D63B-4AC9-9430-687C8F815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FCC2C-FA39-4481-A488-CAF2B3633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449A6-0CB3-497D-8F66-20C6B4710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89385-0885-4557-9F66-26AFC8660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DE0E6-36DC-4E9B-A1A5-367F32005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5E3B-27A2-4250-8018-CCC4D042E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F29F2-DC67-4D72-AE76-15857B80E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6C98A-D46B-41D2-AC20-6A33A8EB2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57F1B-B281-43BA-B494-B92069B79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92CD-EBAE-4C77-BC5F-AD829D0F6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FA79F-7F40-4ECD-A4BD-67DEF8749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FEDCF-84E6-4211-8F43-A7B7C984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3966D-8F92-4EEA-8048-43D8AA5A5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3799E-23D7-421E-A475-249E7387B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9B384-FF52-49F1-83C5-6B4EC46D8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954DD-3DAC-4C6B-9DAD-4DB898DBB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4E984-FF5C-4B5C-84A4-938F018F0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DF9DA-AF98-43B9-8315-E0C50C155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E1B87F-9699-40B6-A366-96151D901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7505C-E0BA-412F-A354-650850DF3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A2CB-BBB3-4701-B6B9-073C90EC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D54FC-8A32-4563-8285-7DBB927F2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E127E-0607-4505-BE7A-EFA6BD5E4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C77E2-39DA-478A-915D-0EEAF0818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97E2F-226E-47EC-8A04-1E288E8DF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A6C13-72FB-4BCC-A50F-FA5BDB062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F2455B-8AA2-4703-833C-A1775B8C8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D7032-326A-40AD-A041-D30D9A1E6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DF8C6-F466-4BEC-8142-6F4C3A6CB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1025F-9AB5-4C56-A623-9F2D31E09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2BEE19-0EC1-4A8F-BDE2-3F94B798E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9659-4EAB-4AAB-97E7-3F8AF400B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52E75-4E44-414A-8EC7-0FD460983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B2C2B-0582-43C7-A7F2-2F730FBDE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47601-7A9E-439B-BE2A-AA3EFE2AA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E47FF-5CF5-4A87-ACFC-AC73E230C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D1263-C8D1-4F96-A8B7-8292B7873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A1BD8-2D34-482D-8514-FCAD425E7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64D21-E545-4B8B-9734-646DF7CFB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2A422-C930-4750-AE0B-5F2A598F16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800F8-30E5-49FA-9D3B-4FD6FA72E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897CD2-6165-4E6B-8B91-62D064B99A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3C0EE-0F66-4CD8-8D63-2FA3D5B1E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C87CC-DB7E-4D09-BC62-450ADB3A5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097EA-C9F2-4891-A1E3-29E00E869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EB244-B361-485A-98DF-90FD0C8DC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A9A3D-0193-497A-B886-D673184CD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51F90-499E-4C17-BDD4-FB8C6F92E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DBD54-F895-4D90-9D0A-E135F5F93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E6FC2-6B55-4FFA-B10C-721AE7485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25B41-CBED-4AAD-9F62-9CD37F1FE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2D635-33FC-47DD-B482-62E73445F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3B5F09-CCA0-4C40-B360-2FF19C6FE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24327-C26B-418C-8A0E-A5788F231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C9080-DF08-49CA-8D78-5588D1E00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728606-902B-4550-97A9-3A16E4D88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DFBCC-B44E-4378-ADA1-BBC1C6B31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56F2BB-D0CD-441D-9D81-C5E4CAB34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E3C3E-1222-43B0-8A25-743B446DC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A1628C-D36C-467F-9AEF-993DB679A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5E924-2ABE-487B-8463-6865269D6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DF730-A9E2-4D09-B985-7A5617BF6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1C8F2-8C4B-4B5C-A13F-82D1E0C2C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7813C-B310-4999-9343-23167B1A5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7013-9CB7-46F7-9D2B-663BFBC7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59F01-8540-4985-89B6-75A4502D8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F521DF-795E-4296-A93D-FE9AF93E15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1B69BF-BE1C-4F98-BB34-37C408B570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870ED-F72F-4253-BC91-2CD0AAF73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FDCF69-A9BF-4F79-935B-CA0E33C86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82B87-D40B-422B-A27C-44601019D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3000A-8507-4208-80EF-0FB2EA898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DA09E-FC85-46E1-B480-235E77A59B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F7B78-5F94-414E-BF41-ACFB9C0EB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EF6FB-BCAD-4CE7-8F60-704705A84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5E9B4-4DA5-4CED-BC2D-189CF3E1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ED546-67DC-4FE3-B722-DCFC4A345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A7F6E-9232-4547-B385-F0A369E3B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22192-831D-4A41-8AC6-B4DA5E73A9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F07B16-0D39-44A0-9FA6-97EB348782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E83C8-1C93-42A9-AB27-338D565526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D7FBE7-3761-4FB0-9366-CD99D79252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ABC0E7-6F58-490B-8B0F-FD89C6D32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98104-D287-4F3C-B91C-ADF6F7F88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D15FB6-7782-4680-A47F-A8F716D0C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0B78F-49B0-4F12-8ADE-E8FC1B267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9A48-D47F-480D-ABB6-3BAA8F80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1435E-3F7B-44C7-A5AE-7284A7ADD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BEE75-140E-4231-A73F-4C8C3FEC9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C2729-4668-4A0C-91F7-EB72E50B8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E9AFF-B2E8-4E0F-BBED-EAECD4B1B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8AA43-BCC6-432D-881F-8DDE6AFF1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7ED6CA-FA30-470D-A002-CF2269A255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C7B64C-BEB3-4D5C-848D-238925B54B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68AC6-504A-473E-AD56-AA7F22783B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8f0f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F4568-938D-4511-A803-B53CBB2263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EE49D-8365-4586-A676-4B6E897DB4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2238F-C470-4A20-8F36-9045DE9F71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4B13E-D841-4D7F-BE9E-C91DF4CBD2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E02F8-F5CC-40E0-9B36-A020373740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7AEBD-C2D1-4006-938C-7394DA50B0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A6C0A-A196-43F6-BEE1-3987A222FE7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2193840"/>
            <a:ext cx="7778880" cy="2060640"/>
          </a:xfrm>
          <a:prstGeom prst="rect">
            <a:avLst/>
          </a:prstGeom>
          <a:ln w="0">
            <a:noFill/>
          </a:ln>
        </p:spPr>
      </p:pic>
      <p:sp>
        <p:nvSpPr>
          <p:cNvPr id="371" name="PlaceHolder 1"/>
          <p:cNvSpPr>
            <a:spLocks noGrp="1"/>
          </p:cNvSpPr>
          <p:nvPr>
            <p:ph type="subTitle"/>
          </p:nvPr>
        </p:nvSpPr>
        <p:spPr>
          <a:xfrm>
            <a:off x="685800" y="405756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ea typeface="ＭＳ Ｐゴシック"/>
              </a:rPr>
              <a:t>Horse jumping</a:t>
            </a:r>
            <a:endParaRPr b="0" lang="en-US" sz="2700" spc="-1" strike="noStrike">
              <a:solidFill>
                <a:srgbClr val="000000"/>
              </a:solidFill>
              <a:latin typeface="Lucida Sans Unicode"/>
            </a:endParaRPr>
          </a:p>
        </p:txBody>
      </p:sp>
      <p:pic>
        <p:nvPicPr>
          <p:cNvPr id="372" name="Picture 13" descr=""/>
          <p:cNvPicPr/>
          <p:nvPr/>
        </p:nvPicPr>
        <p:blipFill>
          <a:blip r:embed="rId2"/>
          <a:srcRect l="15128" t="0" r="1684" b="7731"/>
          <a:stretch/>
        </p:blipFill>
        <p:spPr>
          <a:xfrm>
            <a:off x="3352680" y="620640"/>
            <a:ext cx="3146400" cy="2274840"/>
          </a:xfrm>
          <a:prstGeom prst="rect">
            <a:avLst/>
          </a:prstGeom>
          <a:ln w="0">
            <a:noFill/>
          </a:ln>
        </p:spPr>
      </p:pic>
      <p:sp>
        <p:nvSpPr>
          <p:cNvPr id="373" name="TextBox 4"/>
          <p:cNvSpPr/>
          <p:nvPr/>
        </p:nvSpPr>
        <p:spPr>
          <a:xfrm>
            <a:off x="6793920" y="6172200"/>
            <a:ext cx="2167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y Diksha Jai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2603520"/>
            <a:ext cx="8229600" cy="23493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The more speed the horse has, the higher it can jump.</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1500120"/>
            <a:ext cx="8242560" cy="1157400"/>
          </a:xfrm>
          <a:prstGeom prst="rect">
            <a:avLst/>
          </a:prstGeom>
          <a:ln w="0">
            <a:noFill/>
          </a:ln>
        </p:spPr>
      </p:pic>
      <p:pic>
        <p:nvPicPr>
          <p:cNvPr id="376"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1292400" y="835200"/>
            <a:ext cx="6864120" cy="1152360"/>
          </a:xfrm>
          <a:prstGeom prst="rect">
            <a:avLst/>
          </a:prstGeom>
          <a:ln w="0">
            <a:noFill/>
          </a:ln>
        </p:spPr>
      </p:pic>
      <p:pic>
        <p:nvPicPr>
          <p:cNvPr id="378" name="Picture 5" descr=""/>
          <p:cNvPicPr/>
          <p:nvPr/>
        </p:nvPicPr>
        <p:blipFill>
          <a:blip r:embed="rId2"/>
          <a:srcRect l="18950" t="52896" r="58045" b="3680"/>
          <a:stretch/>
        </p:blipFill>
        <p:spPr>
          <a:xfrm>
            <a:off x="3886200" y="2209680"/>
            <a:ext cx="1676520" cy="2590920"/>
          </a:xfrm>
          <a:prstGeom prst="rect">
            <a:avLst/>
          </a:prstGeom>
          <a:ln w="0">
            <a:noFill/>
          </a:ln>
        </p:spPr>
      </p:pic>
      <p:pic>
        <p:nvPicPr>
          <p:cNvPr id="379" name="Picture 10" descr="AA028240.png"/>
          <p:cNvPicPr/>
          <p:nvPr/>
        </p:nvPicPr>
        <p:blipFill>
          <a:blip r:embed="rId3"/>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Content Placeholder 1"/>
          <p:cNvSpPr/>
          <p:nvPr/>
        </p:nvSpPr>
        <p:spPr>
          <a:xfrm>
            <a:off x="838080" y="2077920"/>
            <a:ext cx="7925040" cy="41148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a horse jumps, it exerts pressure on the ground. This force is applied only as long as its hooves are touching the ground. Once the horse's hooves touch off of the ground, its speed will immediately start decreasing, until it gets to the top of its arc where its vertical velocity equals zero.  When the horse is in air, only gravity  is acting on it.  Gravity pulls the horse back to the ground.  After the horse reaches the highest point of its jump it starts to descend.  Its velocity then increases, until the hooves reach the ground.</a:t>
            </a:r>
            <a:endParaRPr b="0" lang="en-US" sz="2300" spc="-1" strike="noStrike">
              <a:solidFill>
                <a:srgbClr val="000000"/>
              </a:solidFill>
              <a:latin typeface="Arial"/>
            </a:endParaRPr>
          </a:p>
        </p:txBody>
      </p:sp>
      <p:pic>
        <p:nvPicPr>
          <p:cNvPr id="381" name="Picture 4" descr=""/>
          <p:cNvPicPr/>
          <p:nvPr/>
        </p:nvPicPr>
        <p:blipFill>
          <a:blip r:embed="rId1"/>
          <a:srcRect l="1976" t="15128" r="13017" b="7147"/>
          <a:stretch/>
        </p:blipFill>
        <p:spPr>
          <a:xfrm>
            <a:off x="1676520" y="228600"/>
            <a:ext cx="6248160" cy="1849320"/>
          </a:xfrm>
          <a:prstGeom prst="rect">
            <a:avLst/>
          </a:prstGeom>
          <a:ln w="0">
            <a:noFill/>
          </a:ln>
        </p:spPr>
      </p:pic>
      <p:pic>
        <p:nvPicPr>
          <p:cNvPr id="382"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2514240"/>
            <a:ext cx="8229600" cy="24382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The angle at which the horse jumps will determine how far it will go. Generally, the higher the jump, the steeper the launch angle needs to b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ＭＳ Ｐゴシック"/>
              </a:rPr>
              <a:t>The bigger the horse, the higher it can jump.</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450720" y="969840"/>
            <a:ext cx="8242560" cy="1359000"/>
          </a:xfrm>
          <a:prstGeom prst="rect">
            <a:avLst/>
          </a:prstGeom>
          <a:ln w="0">
            <a:noFill/>
          </a:ln>
        </p:spPr>
      </p:pic>
      <p:pic>
        <p:nvPicPr>
          <p:cNvPr id="385" name="Picture 10" descr="AA028240.png"/>
          <p:cNvPicPr/>
          <p:nvPr/>
        </p:nvPicPr>
        <p:blipFill>
          <a:blip r:embed="rId2"/>
          <a:stretch/>
        </p:blipFill>
        <p:spPr>
          <a:xfrm>
            <a:off x="8275680" y="5834160"/>
            <a:ext cx="822240" cy="102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Title 2" descr=""/>
          <p:cNvPicPr/>
          <p:nvPr/>
        </p:nvPicPr>
        <p:blipFill>
          <a:blip r:embed="rId1"/>
          <a:stretch/>
        </p:blipFill>
        <p:spPr>
          <a:xfrm>
            <a:off x="1749600" y="2255760"/>
            <a:ext cx="6254640" cy="17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47:51Z</dcterms:created>
  <dc:creator>Ajay Jain</dc:creator>
  <dc:description/>
  <dc:language>en-US</dc:language>
  <cp:lastModifiedBy>Ajay Jain</cp:lastModifiedBy>
  <dcterms:modified xsi:type="dcterms:W3CDTF">2010-01-14T12:34:15Z</dcterms:modified>
  <cp:revision>22</cp:revision>
  <dc:subject/>
  <dc:title>Physics in daily life</dc:title>
</cp:coreProperties>
</file>